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6DAC-9B6B-4479-81E3-C8903B2A9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56B0-D7C2-4A6D-B847-50F741CD1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6026-2E52-4D93-9E75-DD8077013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2B08-787F-4116-9E46-0E9DCE9D1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CA6A-2C3F-46B8-B84F-8A868C460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81E1-A369-401A-98FE-2A4598AD2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BED6-8763-486D-809D-B178013C2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E1A-6DE9-468A-BC66-E65A56AB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97C-A7AA-44A3-A9C1-D058FC7A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589-FAA2-4338-BA48-8AE6C28F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85D-CA2D-4F79-A28A-DD6EBE11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B353-01F8-45BB-8C40-89A8FC3A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F64A-9568-417B-81CC-D1622118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ECAF-BB78-46D4-8765-6E894384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E23C-EF11-4480-A44F-61B3219D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6C74-8104-4F4C-93A2-C4F8ED43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FDEB-5ACF-4A29-9305-8E6342FF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AA87-C6A4-4142-8A8D-E68D719C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FB2-B2A1-46A3-B473-B86132D5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5140-1361-449F-B2DE-E63A7C2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F0E2-BE5E-4F1A-A556-025BC40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FCB6-A213-4755-B4FD-1163BA1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3AB4-1C52-4EA9-8427-93A13CF2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BF2F-5B5C-4D5D-927E-67D449FB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5A1D-F3D4-49A8-A2F8-B05DC157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B1B0-A3FF-42E5-B40C-BC939EA8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6741-290A-43B9-9FFE-B1177DF4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558DF-B409-4B98-A440-C28613E5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ADDC-8896-4F86-A739-8A92F2D6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25E-9A92-4E4A-AE8A-2B30C1BD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259F-F9B9-4A68-9472-59E90C84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7164-9D27-476E-9F45-F2458F3E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216D-D927-4BAC-B964-DB1A25A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6673-1CD7-462D-89A4-F71A5360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4AA6-6A29-4BDA-A480-CE053D26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7519D-FFDE-4461-BF8A-144D82BE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CA69-84A9-490C-900D-C7E2706E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E270-FE24-4070-A25A-E39CADC6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FCB8-1ED7-4A93-8D19-08D114DF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5CA99-E63E-4174-9CCD-E70CBE5A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340-CD3A-4467-8569-44658DFE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84A3-2912-413F-9E11-BA467C01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3166-112D-4E5C-BE15-50B11010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B9C08-413C-48BF-92BA-F1480D6A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70A2-80A0-439C-B0FF-1B006916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CCFC-30FF-4CD4-B08F-B2B13B2A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0323-50AB-417C-B095-8891341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322B-EBF3-4CAE-AB9C-180E2EAA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8708-0735-4CC0-8E4D-64DF7B6A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DD8B-1805-40D1-9D9E-C2DC5FD1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A054-7A39-44B3-B7DE-172625E9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EFB-41F9-41AF-8085-617685EB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B8948-6EDF-46E3-87C3-BDE431DA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A09B0-083D-4F29-AED7-1076E7AE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A4B42-3F1D-4D3D-A23A-50D7325C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7B2CE-33F7-4AED-BA9F-A2492EE6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B32EB-BE21-4D04-8888-79BDE354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AA06-BB19-45D2-89E5-5FCEBC75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27639-A377-4E41-A887-251F5AB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C6664-877E-4D68-8330-5E3B7097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5995C-623B-4B1E-A731-EC8C39D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BFED-24C5-4E27-9B3D-61C206BB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0A0-077B-417D-A108-207BDD76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0AC30-3F79-4712-A36A-DE84A744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1154-BC60-4D21-8616-C7DDB26C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7170D-F0F2-49C9-8554-91F6CAAC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53647-BD20-4519-9126-F448B252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32BF-75AC-42C1-8EF7-97ECA320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7F00-34BC-4D30-B56D-832F50F4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D385-1391-4CDD-9147-2BC8D3AF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42F5-EC12-4F46-96E0-79BAB79D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BC6BA-AB7E-481F-B90D-1EA61E3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536E6-53FF-4B63-A959-F75892D4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983-DBF8-4603-A8D3-BD8F6EB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329C0-6A36-4F50-98BA-4F7EEAD6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FA883-1210-4804-98C7-5725874F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27902-AC91-434D-9F5F-7824F095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02FF1-41D2-44EC-8796-54283B32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9D80-7512-4C53-BE62-D6DC042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6F0E7-06CF-4537-BC5F-5D099D7E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3D3EC-555B-4A26-B3FF-AA2CD58B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2FF76-D21C-47C9-9CF9-8BB0A6BF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5560C-E542-47BA-9B65-29ABF62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5D930-EC78-41E8-BA4A-CB6208A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DA6-21D4-4F8D-874E-3187F2C9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B6962-DE59-492B-A7B8-08764BB5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6AAB8-B3E7-436A-81DC-8ABE804C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81281-5B1E-42A7-9FB3-7CFDD5F0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67DB-7B4E-42D2-B4E4-1EEE8794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C673-E80C-41B3-98F0-6D7CAEC0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710-1FF2-42BD-9763-80A8A882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3754-D834-4E00-B153-3C6E97DF5414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7422-5479-4498-8A2A-44AB7EC82C56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10FC-93F5-49E1-9CAF-E8F7931EE60E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6258-A489-4643-A174-3A80A0F4A4FE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F59A-05A0-483B-B15D-11B8CE9D68E2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6DDD-69DA-41D5-9ABC-3B098B8F22AF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5C5A-711C-4301-B105-C84458058B81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B9F8-79E8-4845-8589-C8C652DA7403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9940-4694-4167-9BB6-85CC4EA5CC97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CB57-DF8B-4282-8475-27755949B2A7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42E1-1EEA-4F17-8502-E26E502F18B5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D6F6-49CE-4762-A052-70C942286099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5FA6-F884-4E8A-94F3-D110F64340FC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062A-9FAC-445C-98D9-31CB314426EB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C:\Users\Carol Cram\AppData\Local\Microsoft\Windows\Temporary Internet Files\Content.IE5\WBW9IZ4R\MPj04221900000[1].jpg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The Right Fi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Gill Sans MT"/>
              </a:rPr>
              <a:t>Company Overvie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Gill Sans MT"/>
              </a:rPr>
              <a:t>Cassand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Overview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ny Descrip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quipment and Fitness 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ansion Pla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ompany Description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ight Fit operates a 20,000 square foot state-of-the-art gym and fitness facility in San Diego, California. A team of highly motivated trainers provides personalized fitness assessments, develops training programs, and leads fitness classes seven days a wee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Equipmen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eadmi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ionary Bicyc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lliptical Train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ble and Hammer Streng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C:\Documents and Settings\cblount\Local Settings\Temporary Internet Files\Content.IE5\FPMT7AYA\MC900433876[1].png"/>
          <p:cNvPicPr/>
          <p:nvPr/>
        </p:nvPicPr>
        <p:blipFill>
          <a:blip r:embed="rId1"/>
          <a:stretch/>
        </p:blipFill>
        <p:spPr>
          <a:xfrm>
            <a:off x="5132520" y="4133880"/>
            <a:ext cx="3663720" cy="2663640"/>
          </a:xfrm>
          <a:prstGeom prst="rect">
            <a:avLst/>
          </a:prstGeom>
          <a:ln w="0">
            <a:noFill/>
          </a:ln>
        </p:spPr>
      </p:pic>
      <p:sp>
        <p:nvSpPr>
          <p:cNvPr id="3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Fitness Classes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p Aerobic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w Impact D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dio Boot Cam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w Impact Mil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retch and Streng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i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Expansion Plans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pic>
        <p:nvPicPr>
          <p:cNvPr id="342" name="Content Placeholder 3" descr=""/>
          <p:cNvPicPr/>
          <p:nvPr/>
        </p:nvPicPr>
        <p:blipFill>
          <a:blip r:embed="rId1"/>
          <a:stretch/>
        </p:blipFill>
        <p:spPr>
          <a:xfrm>
            <a:off x="1414440" y="1359000"/>
            <a:ext cx="7540560" cy="4895640"/>
          </a:xfrm>
          <a:prstGeom prst="rect">
            <a:avLst/>
          </a:prstGeom>
          <a:ln w="0">
            <a:noFill/>
          </a:ln>
        </p:spPr>
      </p:pic>
      <p:sp>
        <p:nvSpPr>
          <p:cNvPr id="3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5:46:28Z</dcterms:created>
  <dc:creator>Carol M. Cram</dc:creator>
  <dc:description/>
  <dc:language>en-US</dc:language>
  <cp:lastModifiedBy> </cp:lastModifiedBy>
  <dcterms:modified xsi:type="dcterms:W3CDTF">2011-03-17T19:49:43Z</dcterms:modified>
  <cp:revision>13</cp:revision>
  <dc:subject/>
  <dc:title>The Right Fit</dc:title>
</cp:coreProperties>
</file>